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809F-35E7-4B93-83BB-12D4B5AE9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C7BF-2FB7-4084-9943-5E5D29256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54DE-3B93-4AA4-AD0E-6DFDB03A3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FF99-FF61-415C-8123-E27045C1D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A67B-7A42-415E-9069-A61F393DF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5FC1-CD6C-4592-A32B-551D9405F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FE53-245D-4680-BAE4-7DFA8F77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8409-8E39-4B94-884B-08459DBE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0F4E-F369-4403-99F5-8CD608427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0755-A477-4D96-914A-807069AE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651C-B79D-4936-8428-BCDAC3C32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019B-F42D-45C5-BA7E-E8CBDEC1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11EE-8C4A-4E83-9BB3-9D90F5B8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AE45-0E4F-48C1-8182-88D7A057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5935-FC3C-46D7-8C72-8306B7FB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4FF5-6CA0-43CB-9B62-0CA93A9D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CACC-8FD1-4DF0-9C07-7DA9680F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F4D7-4AAF-4BBF-8828-280FA283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F13A-6AC1-4461-9143-CCD8D0D5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7EEB-57AC-4F39-B24B-4104E19B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7A6D-004A-4D2A-A1BF-4B3110E2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C6D4-D995-47E3-9F4E-D2683C6F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3E57-37FD-4616-A099-C4107A148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DF1E-2E69-4158-96AE-CBA9EED5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9253-449F-4F14-8F88-BB9060C0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5ACC-7837-4F62-A601-E0848C1F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B462-F94B-44D9-8E4F-33882238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DF87-7FC4-4065-85C9-6287D328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1C4B-4512-4A6C-B348-57935F39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56A2-8197-48FD-9FD0-D5ED4F6D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AE80-5B39-4374-B90C-C60063050F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2BDE-D1E5-4183-AAF4-A25B74C2AA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arenlancour@charter.ne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oinc.org/" TargetMode="External"/><Relationship Id="rId2" Type="http://schemas.openxmlformats.org/officeDocument/2006/relationships/hyperlink" Target="http://www.soinc.org/" TargetMode="Externa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32004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2011 MICROBE MISSION(B/C)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c000"/>
                </a:solidFill>
                <a:latin typeface="Tahoma"/>
              </a:rPr>
              <a:t>11-4-2010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62160" y="4647960"/>
            <a:ext cx="4800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KAREN LANC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NATIONAL SUPERVI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National Rules Committee Chairman – Life Scienc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karenlancour@charter.net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5" descr="SO LOGO"/>
          <p:cNvPicPr/>
          <p:nvPr/>
        </p:nvPicPr>
        <p:blipFill>
          <a:blip r:embed="rId2"/>
          <a:stretch/>
        </p:blipFill>
        <p:spPr>
          <a:xfrm>
            <a:off x="2514600" y="914400"/>
            <a:ext cx="388620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ellular vs. Acellular</a:t>
            </a:r>
            <a:r>
              <a:rPr b="1" lang="en-US" sz="44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600" y="182880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Acellular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– </a:t>
            </a: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Viruses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do not have cellular components, nor do they grow or metabolize organic materials.  They generally consist of a piece of nucleic acid encased in protein which must use the cellular components of a living cell to reproduc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Prions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(</a:t>
            </a: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pr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oteinaceous </a:t>
            </a: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i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nfectious particles) are infectious agents composed primarily of protein which induce the existing polypeptides in host cells to take on its form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Cellular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–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acteria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chaea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are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okaryotic cells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while </a:t>
            </a: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algae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fungi,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and</a:t>
            </a: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 protozoa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have </a:t>
            </a: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eukaryotic cel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rokaryotic vs. Eukaryotic</a:t>
            </a:r>
            <a:r>
              <a:rPr b="0" lang="en-US" sz="44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44593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Prokaryotic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– single cell with nuclear material but no nuclear membrane or membrane bound organel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ukaryotic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– most cells – with organized nucleus and membrane bound organel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celltypes1"/>
          <p:cNvPicPr/>
          <p:nvPr/>
        </p:nvPicPr>
        <p:blipFill>
          <a:blip r:embed="rId1"/>
          <a:stretch/>
        </p:blipFill>
        <p:spPr>
          <a:xfrm>
            <a:off x="5621400" y="2170080"/>
            <a:ext cx="2857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Animal Cell</a:t>
            </a:r>
            <a:r>
              <a:rPr b="0" lang="en-US" sz="40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Picture 5" descr="cell1"/>
          <p:cNvPicPr/>
          <p:nvPr/>
        </p:nvPicPr>
        <p:blipFill>
          <a:blip r:embed="rId1"/>
          <a:stretch/>
        </p:blipFill>
        <p:spPr>
          <a:xfrm>
            <a:off x="1066680" y="1600200"/>
            <a:ext cx="72392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lant Cell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pecial Features</a:t>
            </a:r>
            <a:r>
              <a:rPr b="0" lang="en-US" sz="44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11480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Cell wall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– protection and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Chloroplast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- for photosynthe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Large central vacuole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for storage and increase surface area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144760" y="20178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PlantCelldiagr"/>
          <p:cNvPicPr/>
          <p:nvPr/>
        </p:nvPicPr>
        <p:blipFill>
          <a:blip r:embed="rId2"/>
          <a:stretch/>
        </p:blipFill>
        <p:spPr>
          <a:xfrm>
            <a:off x="4724280" y="2057400"/>
            <a:ext cx="39718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Organelles of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  Microbial Origi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2209680"/>
            <a:ext cx="8955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Mitochondria and Chloroplasts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– have DNA similar to that of a Prokaryotic cell and can reproduce independent of the rest of the Eukaryotic ce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It is believed that both chloroplasts and mitochondria were one independent Prokaryotes who took up residence in the Eukaryotic cell and have developed a special symbiotic relationsh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MICROBIAL GROWTH CURV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9" name="Picture 2" descr="C:\Users\Karen Lancour\Pictures\My Pictures\SO Event Diagrams\Microbe Mission\General\growthcurve.jpg"/>
          <p:cNvPicPr/>
          <p:nvPr/>
        </p:nvPicPr>
        <p:blipFill>
          <a:blip r:embed="rId1"/>
          <a:stretch/>
        </p:blipFill>
        <p:spPr>
          <a:xfrm>
            <a:off x="330120" y="1963800"/>
            <a:ext cx="851688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cte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0" y="16002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Only one cell – a prokaryotic ce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Live in all environments – even above boiling point and below freezing po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Basically three shapes – spherical , rod , and spiral or helical (spirullum)  Exist as individuals or cluster together to form pairs, chains, squares, or other groupin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Some form spor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Some are photoautotrophic -  make their own food as plants and give off oxygen – </a:t>
            </a:r>
            <a:r>
              <a:rPr b="1" lang="en-US" sz="1800" spc="-1" strike="noStrike">
                <a:solidFill>
                  <a:srgbClr val="e62d1a"/>
                </a:solidFill>
                <a:latin typeface="Tahoma"/>
              </a:rPr>
              <a:t>Cyanobacteria </a:t>
            </a: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are also aerobic </a:t>
            </a:r>
            <a:r>
              <a:rPr b="1" lang="en-US" sz="1800" spc="-1" strike="noStrike">
                <a:solidFill>
                  <a:srgbClr val="e62d1a"/>
                </a:solidFill>
                <a:latin typeface="Tahoma"/>
              </a:rPr>
              <a:t>Purple and green bacteria </a:t>
            </a: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are anaerobic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Some are chemoautotrophic -  synthesize their own food using energy from chemical reactions – important for recycling in nitrogen and sulfur cycl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Some have flagella -  rotates like a tiny outboard motor, other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secrete a slime layer and move over surfaces like slu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7" descr="Composite Bacterial Cell"/>
          <p:cNvPicPr/>
          <p:nvPr/>
        </p:nvPicPr>
        <p:blipFill>
          <a:blip r:embed="rId1"/>
          <a:stretch/>
        </p:blipFill>
        <p:spPr>
          <a:xfrm>
            <a:off x="4952880" y="27000"/>
            <a:ext cx="38102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CTERIAL SHAPES</a:t>
            </a:r>
            <a:r>
              <a:rPr b="1" lang="en-US" sz="44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Picture 3" descr="360px-Bacterial_morphology_diagram_svg.png"/>
          <p:cNvPicPr/>
          <p:nvPr/>
        </p:nvPicPr>
        <p:blipFill>
          <a:blip r:embed="rId1"/>
          <a:stretch/>
        </p:blipFill>
        <p:spPr>
          <a:xfrm>
            <a:off x="1981080" y="1843200"/>
            <a:ext cx="52279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425916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GRAM + VS. GRAM – BACTERIA</a:t>
            </a:r>
            <a:r>
              <a:rPr b="1" lang="en-US" sz="28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0520" y="2666520"/>
            <a:ext cx="8574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Gram positive bacter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stain purple under Gram st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have a thick bilayer wall of the polymer peptidoglyca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Gram negative bacter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stain 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have a thin layer of this polymer and an additional lipopolysaccharide outer layer, LPS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often endotoxic  - capable of initiating inflammation and cell-mediated immune respons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e.g., </a:t>
            </a:r>
            <a:r>
              <a:rPr b="1" i="1" lang="en-US" sz="2000" spc="-1" strike="noStrike">
                <a:solidFill>
                  <a:srgbClr val="0033cc"/>
                </a:solidFill>
                <a:latin typeface="Tahoma"/>
              </a:rPr>
              <a:t>Salmonella</a:t>
            </a: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, </a:t>
            </a:r>
            <a:r>
              <a:rPr b="1" i="1" lang="en-US" sz="2000" spc="-1" strike="noStrike">
                <a:solidFill>
                  <a:srgbClr val="0033cc"/>
                </a:solidFill>
                <a:latin typeface="Tahoma"/>
              </a:rPr>
              <a:t>Shigella</a:t>
            </a: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, and </a:t>
            </a:r>
            <a:r>
              <a:rPr b="1" i="1" lang="en-US" sz="2000" spc="-1" strike="noStrike">
                <a:solidFill>
                  <a:srgbClr val="0033cc"/>
                </a:solidFill>
                <a:latin typeface="Tahoma"/>
              </a:rPr>
              <a:t>Escherichia</a:t>
            </a: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2" descr="Gram Positive and Gram Negative CW"/>
          <p:cNvPicPr/>
          <p:nvPr/>
        </p:nvPicPr>
        <p:blipFill>
          <a:blip r:embed="rId1"/>
          <a:stretch/>
        </p:blipFill>
        <p:spPr>
          <a:xfrm>
            <a:off x="5715000" y="228600"/>
            <a:ext cx="296064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43354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rcha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9" name="Content Placeholder 3" descr="Archaea.bmp"/>
          <p:cNvPicPr/>
          <p:nvPr/>
        </p:nvPicPr>
        <p:blipFill>
          <a:blip r:embed="rId1"/>
          <a:stretch/>
        </p:blipFill>
        <p:spPr>
          <a:xfrm>
            <a:off x="6858000" y="3049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228240" y="16761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Similar to bacteria – prokaryoti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Cell walls lack </a:t>
            </a:r>
            <a:r>
              <a:rPr b="1" lang="en-US" sz="2800" spc="-1" strike="noStrike">
                <a:solidFill>
                  <a:srgbClr val="e62d1a"/>
                </a:solidFill>
                <a:latin typeface="Tahoma"/>
              </a:rPr>
              <a:t>peptidoglycan + other differ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Origin very old - during formation of the ear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Extremely tolerant to heat, acid, and toxic g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ound in extreme habitats in anaerobic environments to produce methane, high salt concentrations or hot acid environ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volved in carbon &amp; nitrogen cycles, assist in digestion, &amp; can be used in sewage treat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vent Rules – 2011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9360">
            <a:solidFill>
              <a:srgbClr val="00e4a8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DISCLAIM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e62d1a"/>
                </a:solidFill>
                <a:latin typeface="Tahoma"/>
              </a:rPr>
              <a:t>This presentation was prepared using draft rules.  There may be some changes in the final copy of the rules. 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The rules which will be in your Coaches Manual and Student Manuals will be the official rules.</a:t>
            </a:r>
            <a:br>
              <a:rPr sz="1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46404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lgal Protist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(ALGAE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1980720"/>
            <a:ext cx="8269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Are Eukaryotic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ound in fresh and salt water environme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an live on rocks, trees, and in soils with enough mois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an carry on photosynthesis – produce large amount of oxyge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2d1a"/>
                </a:solidFill>
                <a:latin typeface="Tahoma"/>
              </a:rPr>
              <a:t>Diatoms, </a:t>
            </a:r>
            <a:r>
              <a:rPr b="1" i="1" lang="en-US" sz="3200" spc="-1" strike="noStrike">
                <a:solidFill>
                  <a:srgbClr val="e62d1a"/>
                </a:solidFill>
                <a:latin typeface="Tahoma"/>
              </a:rPr>
              <a:t>Clamydomonas, Volvox, Spirogy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Picture 2" descr="Grouped_Diatoms.jpg"/>
          <p:cNvPicPr/>
          <p:nvPr/>
        </p:nvPicPr>
        <p:blipFill>
          <a:blip r:embed="rId1"/>
          <a:stretch/>
        </p:blipFill>
        <p:spPr>
          <a:xfrm>
            <a:off x="6553080" y="457200"/>
            <a:ext cx="196380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214200"/>
            <a:ext cx="84103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nimal-like Protist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        (PROTOZOA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20" y="201744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rotozoa means “little animal” – act like tiny animals – Eukaryo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Hunt other microbes for fo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Mainly feed on bacteria, also other protozoa and some alg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Digest food in digestive organel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iliates, Amoebaes, Flagellates  -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Paramecium, Amoeba,  Euglen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Most are not harmful – a few are harmfu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ertain protozoa can cause 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dysentery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mala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2" descr="Amoeba.jpg"/>
          <p:cNvPicPr/>
          <p:nvPr/>
        </p:nvPicPr>
        <p:blipFill>
          <a:blip r:embed="rId1"/>
          <a:stretch/>
        </p:blipFill>
        <p:spPr>
          <a:xfrm>
            <a:off x="6400800" y="304920"/>
            <a:ext cx="2422440" cy="16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334476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Fung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80520" y="1981080"/>
            <a:ext cx="8574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Cellular level, more like animals than plants – Eukaryotic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Can’t synthesize their own foo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Single celled as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yeast</a:t>
            </a: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or multicellular clusters as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molds &amp; mushroo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Multicellular ones  form filament like strands –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hypha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Grow best in slightly acidic environment – can grow in low moistur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Live in soil, on plants &amp; animals, in fresh &amp; salt wat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One teaspoon of topsoil has about 120,000 fung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Baker’s yeast </a:t>
            </a: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for bread and brewing, some are used for antibiotics, others serve as decompos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Some cause disease in humans, animals and plants – ruin ¼ to ½ of fruits &amp; vegetables per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Picture 2" descr="Yeast - SEM.gif"/>
          <p:cNvPicPr/>
          <p:nvPr/>
        </p:nvPicPr>
        <p:blipFill>
          <a:blip r:embed="rId1"/>
          <a:stretch/>
        </p:blipFill>
        <p:spPr>
          <a:xfrm>
            <a:off x="6705720" y="0"/>
            <a:ext cx="19476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VIRUSES</a:t>
            </a:r>
            <a:r>
              <a:rPr b="0" lang="en-US" sz="44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Are acellula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onsists of a piece of nucleic acid (DNA or RNA) encased in protein and in some cases a membrane-like envelop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They come in many sha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ound anywhere there are cells to infes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Exist to reproduce – must take over a suitable host c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Uses the cell machinery of the host cell to reprodu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2" descr="virus.gif"/>
          <p:cNvPicPr/>
          <p:nvPr/>
        </p:nvPicPr>
        <p:blipFill>
          <a:blip r:embed="rId1"/>
          <a:stretch/>
        </p:blipFill>
        <p:spPr>
          <a:xfrm>
            <a:off x="6781680" y="533520"/>
            <a:ext cx="1658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RION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880" y="19807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oteinaceous infectious particles, associated with a number of diseas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haracterized by loss of motor control, dementia, paralysis, wasting and eventually de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2d1a"/>
                </a:solidFill>
                <a:latin typeface="Tahoma"/>
              </a:rPr>
              <a:t>Mad Cow Disease 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in catt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2d1a"/>
                </a:solidFill>
                <a:latin typeface="Tahoma"/>
              </a:rPr>
              <a:t>Creutzfeld-Jacob disease (CJD) 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in huma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ENEFICIAL VS HARMFUL MICROBES</a:t>
            </a:r>
            <a:r>
              <a:rPr b="1" lang="en-US" sz="4400" spc="-1" strike="noStrike">
                <a:solidFill>
                  <a:srgbClr val="262673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28600" y="1828440"/>
            <a:ext cx="8726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Over 99% contribute to the quality of human lif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Live in every environment on ear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mportant in ecological syste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mportant in biogeochemical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Human digestion depends upon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mportant to the food industry and  the productions of many products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Help with wastewater  and oil spill cleanu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Small minority cause dis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8800" y="213840"/>
            <a:ext cx="71150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Food Production</a:t>
            </a:r>
            <a:r>
              <a:rPr b="1" lang="en-US" sz="44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2133720"/>
            <a:ext cx="8650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Milk into yogurt, buttermilk, sour cream, chee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Aid in production of chocolate, bread products, wine, beer, t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ckling process to make pickles from cucumbers and sauerkraut from cabb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Fermentation Products and their Uses</a:t>
            </a:r>
            <a:r>
              <a:rPr b="0" lang="en-US" sz="44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574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2d1a"/>
                </a:solidFill>
                <a:latin typeface="Tahoma"/>
              </a:rPr>
              <a:t>Carbon dioxide – 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bread mak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using baker’s yeast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2d1a"/>
                </a:solidFill>
                <a:latin typeface="Tahoma"/>
              </a:rPr>
              <a:t>Alcohol – 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wine making and brewing  using yeast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2d1a"/>
                </a:solidFill>
                <a:latin typeface="Tahoma"/>
              </a:rPr>
              <a:t>Lactic Acid – 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lactic acid bacteria ferment milk into products as yogurt</a:t>
            </a: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Food Spoilage and Food Decomposition</a:t>
            </a:r>
            <a:r>
              <a:rPr b="1" lang="en-US" sz="44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Microbes play a key role – bacteria and fungi – in food spoilage and decompos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Many types can live at low temperatures as mold on food in the refriger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ood preservation techniques as salt and  high acid affect micro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NDUSTRIAL USES</a:t>
            </a:r>
            <a:r>
              <a:rPr b="1" lang="en-US" sz="44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Microbes (fungi and bacteria) are used to make antibio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lgae are being used to make petroleu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Yeast and bacteria are used in producing medicine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vent Rules – 2011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2d1a"/>
                </a:solidFill>
                <a:latin typeface="Tahoma"/>
              </a:rPr>
              <a:t>BE SURE TO CHECK THE 2011 EVENT RULES </a:t>
            </a:r>
            <a:r>
              <a:rPr b="1" lang="en-US" sz="4400" spc="-1" strike="noStrike">
                <a:solidFill>
                  <a:srgbClr val="0033cc"/>
                </a:solidFill>
                <a:latin typeface="Tahoma"/>
              </a:rPr>
              <a:t>FOR EVENT PARAMETERS AND TOPICS FOR EACH COMPETITION LEVEL</a:t>
            </a: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icrobial Ec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6840" y="1904760"/>
            <a:ext cx="849780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Major producers in aquatic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Decomposers – bacteria and fungi – in many eco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Key role in Biogeochemical cycles to recycle carbon, nitrogen, carbon, w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Natural pest killers in gardens and on cr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eakdown oil from oil spi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Serve as natural water treat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Can cause some ecological problems as red tide and algal bloo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Wastewater Microbiology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2017440"/>
            <a:ext cx="84978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Microbes play a key role in water and waste treatment faciliti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re involved in natural waterway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Involved in maintaining septic tank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liform bacteria as E. coli can contaminate water making it unsaf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icrobial Diseas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33160" y="2286000"/>
            <a:ext cx="8421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2d1a"/>
                </a:solidFill>
                <a:latin typeface="Tahoma"/>
              </a:rPr>
              <a:t>There are many agents of infectious diseas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2d1a"/>
                </a:solidFill>
                <a:latin typeface="Tahoma"/>
              </a:rPr>
              <a:t>Microbes acting as agents are prions, viruses, bacteria, fungi, protozoa, parasitic w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2d1a"/>
                </a:solidFill>
                <a:latin typeface="Tahoma"/>
              </a:rPr>
              <a:t>Examples of common diseases for each to follow </a:t>
            </a:r>
            <a:r>
              <a:rPr b="0" lang="en-US" sz="3200" spc="-1" strike="noStrike">
                <a:solidFill>
                  <a:srgbClr val="e62d1a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ist of Microbial Diseas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66680" y="2017800"/>
            <a:ext cx="788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Be sure to check th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SO National websit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for the final 2011 Lis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of Diseases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VIRAL DISEAS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2884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Mononucleo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Pol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Rab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Small po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Viral encephalit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Viral pneumon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West Nile F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Yellow F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0520" y="20178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AI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Chicken Pox &amp; Shing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Common Cold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Dengue Fev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Ebola Hemorrhagic F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Her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Influen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Meas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M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CTERIAL DISEAS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1904760"/>
            <a:ext cx="4040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Anthr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Bacterial Meningiti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Bacterial Pneumoni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Botul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Chole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Dental Caries (tooth deca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Gonorrh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Legionnaire's Dise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Lyme Dise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44720" y="1676160"/>
            <a:ext cx="404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Peptic Ulcer Dise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Pertussis (whooping coug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Rocky Mountain Spotted F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Strep thro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Syphil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Tetan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Toxic Shock Syndr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Tuberculo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Typh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FUNGAL DISEAS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2d1a"/>
                </a:solidFill>
                <a:latin typeface="Tahoma"/>
              </a:rPr>
              <a:t>Athlete’s foo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2d1a"/>
                </a:solidFill>
                <a:latin typeface="Tahoma"/>
              </a:rPr>
              <a:t>Histoplasmosi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2d1a"/>
                </a:solidFill>
                <a:latin typeface="Tahoma"/>
              </a:rPr>
              <a:t>Ringworm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2d1a"/>
                </a:solidFill>
                <a:latin typeface="Tahoma"/>
              </a:rPr>
              <a:t>Thrush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ROTOZOAN/ALGAL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ISEAS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980720"/>
            <a:ext cx="826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62d1a"/>
                </a:solidFill>
                <a:latin typeface="Tahoma"/>
              </a:rPr>
              <a:t>Malaria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62d1a"/>
                </a:solidFill>
                <a:latin typeface="Tahoma"/>
              </a:rPr>
              <a:t>Paralytic Shellfish Poisoning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Estuary Associated Syndrom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RION DISEAS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220932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62d1a"/>
                </a:solidFill>
                <a:latin typeface="Tahoma"/>
              </a:rPr>
              <a:t>Mad Cow Diseas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National Tournament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3bd6c"/>
                </a:solidFill>
                <a:latin typeface="Tahoma"/>
              </a:rPr>
              <a:t>Added Diseases Topic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Parasitic W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Plant Dise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Important Genera Related to Disease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2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RAINING MATERIAL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Training Power Point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– content over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Training Handout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- content 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Sample Tournament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– sample problems with key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Event Supervisor Guide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– event prep tips, setu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needs and scoring tip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Internet Resources &amp; Training Materials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– on the Science Olympiad website at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soinc.org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under Event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Microbe Mission &amp; Biology-Earth Science CDs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, as well as the </a:t>
            </a: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Division B and Division C Test Packets</a:t>
            </a: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are available from SO store at</a:t>
            </a:r>
            <a:r>
              <a:rPr b="1" lang="en-US" sz="24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soinc.o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ARASITIC WORM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837720" y="2209320"/>
            <a:ext cx="81169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2d1a"/>
                </a:solidFill>
                <a:latin typeface="Tahoma"/>
              </a:rPr>
              <a:t>Hookwor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2d1a"/>
                </a:solidFill>
                <a:latin typeface="Tahoma"/>
              </a:rPr>
              <a:t>Pinwor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2d1a"/>
                </a:solidFill>
                <a:latin typeface="Tahoma"/>
              </a:rPr>
              <a:t>Schistosomiasi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2d1a"/>
                </a:solidFill>
                <a:latin typeface="Tahoma"/>
              </a:rPr>
              <a:t>Tapewor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2d1a"/>
                </a:solidFill>
                <a:latin typeface="Tahoma"/>
              </a:rPr>
              <a:t>Trichinosi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720" y="214200"/>
            <a:ext cx="86868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LANT DISEASE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by Microb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09480" y="1981080"/>
            <a:ext cx="834552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2d1a"/>
                </a:solidFill>
                <a:latin typeface="Tahoma"/>
              </a:rPr>
              <a:t>Dutch Elm Disea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2d1a"/>
                </a:solidFill>
                <a:latin typeface="Tahoma"/>
              </a:rPr>
              <a:t>Ergotis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2d1a"/>
                </a:solidFill>
                <a:latin typeface="Tahoma"/>
              </a:rPr>
              <a:t>Potato Bligh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2d1a"/>
                </a:solidFill>
                <a:latin typeface="Tahoma"/>
              </a:rPr>
              <a:t>Crown Gall Disea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MPORTANT GENERA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09480" y="2361960"/>
            <a:ext cx="834552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e62d1a"/>
                </a:solidFill>
                <a:latin typeface="Tahoma"/>
              </a:rPr>
              <a:t>Wolbachia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e62d1a"/>
                </a:solidFill>
                <a:latin typeface="Tahoma"/>
              </a:rPr>
              <a:t>Batrachochytrium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MICROBE MISSION(B/C)</a:t>
            </a:r>
            <a:r>
              <a:rPr b="1" lang="en-US" sz="40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Event Description -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lab-oriented competition to answer questions, solve problems and analyze data pertaining to various microb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Event –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lab practical in stations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2d1a"/>
                </a:solidFill>
                <a:latin typeface="Tahoma"/>
              </a:rPr>
              <a:t>Event Parameters –</a:t>
            </a:r>
            <a:r>
              <a:rPr b="0" lang="en-US" sz="3200" spc="-1" strike="noStrike">
                <a:solidFill>
                  <a:srgbClr val="e62d1a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be sure to check the rules for resources allowed, type of goggles needed.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icrobe Mission and Other SO Event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520" y="2361960"/>
            <a:ext cx="8574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Disease Detective 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– 2011 topic is Food Borne Illness (many are microbial caus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Ecolog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– Microbes play key role in ecology as with biogeochemical cyc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Dynamic Planet 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– microbes are involved in every part of our planet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ICROBE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-360" y="1905120"/>
            <a:ext cx="8955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The term </a:t>
            </a: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microbe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is short for </a:t>
            </a: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microorganism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which means small organism – observed with a microscop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Over 99% of microbes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ontribute to the quality of human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small minority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ause disease – in humans by sheer numbers or producing powerful toxi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major groups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of microbes are bacteria, Archaea, algae, fungi, protozoa &amp; vir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In </a:t>
            </a: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terms of numbers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, microbes represent most of the diversity of life on Earth and are found in every environ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2011 Microscope Review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2017800"/>
            <a:ext cx="84978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 special training handout covering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2d1a"/>
                </a:solidFill>
                <a:latin typeface="Tahoma"/>
              </a:rPr>
              <a:t>Relative Size of Microb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2d1a"/>
                </a:solidFill>
                <a:latin typeface="Tahoma"/>
              </a:rPr>
              <a:t>Types of Microscopes 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– their uses, advantages and disadvantag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2d1a"/>
                </a:solidFill>
                <a:latin typeface="Tahoma"/>
              </a:rPr>
              <a:t>Parts of a Light Microscope 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nd their function </a:t>
            </a:r>
            <a:r>
              <a:rPr b="1" lang="en-US" sz="3600" spc="-1" strike="noStrike">
                <a:solidFill>
                  <a:srgbClr val="e62d1a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2d1a"/>
                </a:solidFill>
                <a:latin typeface="Tahoma"/>
              </a:rPr>
              <a:t>Principles of Microscop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LATIVE SIZE OF MICROBES</a:t>
            </a:r>
            <a:r>
              <a:rPr b="1" lang="en-US" sz="44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Picture 5" descr="C:\Users\Karen Lancour\Pictures\My Pictures\SO Event Diagrams\Microbe Mission\Cell Types\310px-Relative_scale_svg.png"/>
          <p:cNvPicPr/>
          <p:nvPr/>
        </p:nvPicPr>
        <p:blipFill>
          <a:blip r:embed="rId1"/>
          <a:stretch/>
        </p:blipFill>
        <p:spPr>
          <a:xfrm>
            <a:off x="990720" y="2017800"/>
            <a:ext cx="655308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3T18:36:06Z</dcterms:created>
  <dc:creator>Karen Lancour</dc:creator>
  <dc:description/>
  <dc:language>en-US</dc:language>
  <cp:lastModifiedBy>Karen Lancour</cp:lastModifiedBy>
  <dcterms:modified xsi:type="dcterms:W3CDTF">2010-11-04T19:55:26Z</dcterms:modified>
  <cp:revision>134</cp:revision>
  <dc:subject/>
  <dc:title>BioProcess Lab</dc:title>
</cp:coreProperties>
</file>